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76619-E17F-4DFE-88CB-274131BB0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41F0E-AB30-40C6-A4B5-53B0CB57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0332-99C9-47B4-A45F-17EDBC0A4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0E439-F2FD-40AA-8748-B9CD15842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30E76-69A5-44E8-82B8-A226B1370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79CD-8057-4776-9631-1BCCCDE1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E003-32AE-4D00-B7CD-11C58D428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A75D7-CEA3-4DD7-8CEA-DC800FB8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7CCE-C16B-4860-AEDA-DA798D5B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27E8-E3AC-4D10-92D8-CC5E59D4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4D5F-E4FC-48B9-8589-2A727DEB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1C76-96E4-4410-926A-F69655C92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F87A-4790-4E06-9F00-C1CC6FC99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concerning the interpretation of statistical significance te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hoose larger minimum meaningful effect siz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important, although small, effect sizes may be ignor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inimize bia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g., bias towards the null due to non-differential exposure misclassification makes it harder for a study to achieve statistically significant results.</a:t>
            </a:r>
            <a:endParaRPr b="0" lang="en-US" sz="2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1752480"/>
            <a:ext cx="8915400" cy="43736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between Type I error and Type II error (and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08"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tudies are under-powered, especially given the likely presence of biases towards the null (e.g., exposure misclassification, healthy worker effect bi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selection of .05 as the value for type I error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error) can lead to under-powered studi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oice of values for type I and type II errors should be based on public health or clinical costs of each erro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vel of statistical power is a function of the choices of values for the four components of statistical significance testing that is part of the </a:t>
            </a:r>
            <a:r>
              <a:rPr b="0" lang="en-US" sz="2400" spc="-1" strike="noStrike" u="sng">
                <a:solidFill>
                  <a:srgbClr val="000000"/>
                </a:solidFill>
                <a:uFillTx/>
                <a:latin typeface="Arial"/>
                <a:ea typeface="Arial"/>
              </a:rPr>
              <a:t>study design proces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once the study is conducted and a result is obtained, a post-study power calculation is relatively unimportant for interpreting the study findin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 of statistical power, like levels of type I and type II error and the sample size, are considerations that go into the design of a study, not considerations useful in interpreting the results of a study</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interpret a study finding, calculate a confidence interval to indicate the range of effect values (e.g., range of RRs) that are compatible with the effect estimate obtained in the stud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tion of study findings:</a:t>
            </a:r>
            <a:br>
              <a:rPr sz="4000"/>
            </a:br>
            <a:r>
              <a:rPr b="0" lang="en-US" sz="4000" spc="-1" strike="noStrike">
                <a:solidFill>
                  <a:srgbClr val="000000"/>
                </a:solidFill>
                <a:latin typeface="Arial"/>
              </a:rPr>
              <a:t>confidence intervals and p-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mitations of p-values and confidence intervals</a:t>
            </a:r>
            <a:endParaRPr b="0" lang="en-US" sz="4000" spc="-1" strike="noStrike">
              <a:solidFill>
                <a:srgbClr val="000000"/>
              </a:solidFill>
              <a:latin typeface="Arial"/>
            </a:endParaRPr>
          </a:p>
        </p:txBody>
      </p:sp>
      <p:sp>
        <p:nvSpPr>
          <p:cNvPr id="11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ssume no systematic bias is pres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rtainly false assump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indicates precision of the effect estimate but may tell us nothing about the true value of the eff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may not contain the true effect value because of chance or because of systematic bia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sided p-value does not provide a clear indication of the direction, magnitude, or precision of the associ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5" name="PlaceHolder 2"/>
          <p:cNvSpPr>
            <a:spLocks noGrp="1"/>
          </p:cNvSpPr>
          <p:nvPr>
            <p:ph/>
          </p:nvPr>
        </p:nvSpPr>
        <p:spPr>
          <a:xfrm>
            <a:off x="304560" y="144756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is mostly a function of sample siz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ple size is very large, even trivial departures from the null will be statistically signific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iny effect in a very large study can have the same p-value as a huge effect in a small study</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s attention on an arbitrary cutoff (e.g., .05)</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a p-value of .049 is different than the interpretation of a p-value of .05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attention on the lower boundary of a confidence interval and ignores the rest of the inter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qualitative assessment (yes/no statistically significant) when a quantitative assessment would be more appropr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p-value depends on the statistical te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vs asymptot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 test vs testing for any differences, disregarding the ordering of expos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ail vs two-tail tests: same data but two different interpretation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ternative hypothesis may be rejected when the data do not support the null hypothesis very much (e.g., p=.06)</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ay be more likely under the alternative hypothesi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may be rejected even when the data are much less likely under alternative hypothes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9" name="PlaceHolder 2"/>
          <p:cNvSpPr>
            <a:spLocks noGrp="1"/>
          </p:cNvSpPr>
          <p:nvPr>
            <p:ph/>
          </p:nvPr>
        </p:nvSpPr>
        <p:spPr>
          <a:xfrm>
            <a:off x="228240" y="1599840"/>
            <a:ext cx="853452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alue is simply a measure of rarity with respect to one hypothesis – the null hypothesis (“ch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fe is full of rare events which we often ignore. We take notice of a rare event if there is a plausible competing hypothesis under which the probability of the event is relatively hig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er assessment of the plausibility of the null hypothesis requires the simultaneous consideration of the relative plausibility of alternative hypothe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1"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indicator of the precision of the effect estim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is affected by </a:t>
            </a:r>
            <a:r>
              <a:rPr b="0" lang="en-US" sz="2400" spc="-1" strike="noStrike" u="sng">
                <a:solidFill>
                  <a:srgbClr val="000000"/>
                </a:solidFill>
                <a:uFillTx/>
                <a:latin typeface="Arial"/>
              </a:rPr>
              <a:t>both</a:t>
            </a:r>
            <a:r>
              <a:rPr b="0" lang="en-US" sz="2400" spc="-1" strike="noStrike">
                <a:solidFill>
                  <a:srgbClr val="000000"/>
                </a:solidFill>
                <a:latin typeface="Arial"/>
              </a:rPr>
              <a:t> the precision and the magnitude of the effect estimate, whereas the width of a specific (1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a:t>
            </a:r>
            <a:r>
              <a:rPr b="0" lang="en-US" sz="2400" spc="-1" strike="noStrike">
                <a:solidFill>
                  <a:srgbClr val="000000"/>
                </a:solidFill>
                <a:latin typeface="Arial"/>
              </a:rPr>
              <a:t>confidence interval is affected solely by the precision of the effect estimat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of the confidence interval is a much better indicator of the impact of random error than the p-valu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28800" y="1371600"/>
            <a:ext cx="5334120" cy="457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52720" y="1595520"/>
            <a:ext cx="1800" cy="3381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706920" y="1614600"/>
            <a:ext cx="5061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 name=""/>
          <p:cNvSpPr/>
          <p:nvPr/>
        </p:nvSpPr>
        <p:spPr>
          <a:xfrm>
            <a:off x="3787920" y="1730520"/>
            <a:ext cx="5317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 name=""/>
          <p:cNvSpPr/>
          <p:nvPr/>
        </p:nvSpPr>
        <p:spPr>
          <a:xfrm>
            <a:off x="3627360" y="1833480"/>
            <a:ext cx="7588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7" name=""/>
          <p:cNvSpPr/>
          <p:nvPr/>
        </p:nvSpPr>
        <p:spPr>
          <a:xfrm>
            <a:off x="3560760" y="1994040"/>
            <a:ext cx="892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 name=""/>
          <p:cNvSpPr/>
          <p:nvPr/>
        </p:nvSpPr>
        <p:spPr>
          <a:xfrm>
            <a:off x="3787920" y="2127240"/>
            <a:ext cx="730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 name=""/>
          <p:cNvSpPr/>
          <p:nvPr/>
        </p:nvSpPr>
        <p:spPr>
          <a:xfrm>
            <a:off x="3335400" y="2244600"/>
            <a:ext cx="996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0" name=""/>
          <p:cNvSpPr/>
          <p:nvPr/>
        </p:nvSpPr>
        <p:spPr>
          <a:xfrm>
            <a:off x="3494160" y="2374920"/>
            <a:ext cx="11570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 name=""/>
          <p:cNvSpPr/>
          <p:nvPr/>
        </p:nvSpPr>
        <p:spPr>
          <a:xfrm>
            <a:off x="3681360" y="2550960"/>
            <a:ext cx="11034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 name=""/>
          <p:cNvSpPr/>
          <p:nvPr/>
        </p:nvSpPr>
        <p:spPr>
          <a:xfrm>
            <a:off x="3508200" y="2727360"/>
            <a:ext cx="771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 name=""/>
          <p:cNvSpPr/>
          <p:nvPr/>
        </p:nvSpPr>
        <p:spPr>
          <a:xfrm>
            <a:off x="3720960" y="2901960"/>
            <a:ext cx="11844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 name=""/>
          <p:cNvSpPr/>
          <p:nvPr/>
        </p:nvSpPr>
        <p:spPr>
          <a:xfrm>
            <a:off x="3813120" y="3049560"/>
            <a:ext cx="1117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 name=""/>
          <p:cNvSpPr/>
          <p:nvPr/>
        </p:nvSpPr>
        <p:spPr>
          <a:xfrm>
            <a:off x="3760920" y="3254400"/>
            <a:ext cx="1303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 name=""/>
          <p:cNvSpPr/>
          <p:nvPr/>
        </p:nvSpPr>
        <p:spPr>
          <a:xfrm>
            <a:off x="3654360" y="3444840"/>
            <a:ext cx="1503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 name=""/>
          <p:cNvSpPr/>
          <p:nvPr/>
        </p:nvSpPr>
        <p:spPr>
          <a:xfrm>
            <a:off x="3308400" y="3605040"/>
            <a:ext cx="1968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 name=""/>
          <p:cNvSpPr/>
          <p:nvPr/>
        </p:nvSpPr>
        <p:spPr>
          <a:xfrm>
            <a:off x="3122640" y="3781440"/>
            <a:ext cx="22874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 name=""/>
          <p:cNvSpPr/>
          <p:nvPr/>
        </p:nvSpPr>
        <p:spPr>
          <a:xfrm>
            <a:off x="3521160" y="3956040"/>
            <a:ext cx="2008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3429000" y="4191120"/>
            <a:ext cx="23256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 name=""/>
          <p:cNvSpPr/>
          <p:nvPr/>
        </p:nvSpPr>
        <p:spPr>
          <a:xfrm>
            <a:off x="3666960" y="4425840"/>
            <a:ext cx="2260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2" name=""/>
          <p:cNvSpPr/>
          <p:nvPr/>
        </p:nvSpPr>
        <p:spPr>
          <a:xfrm>
            <a:off x="2963880" y="4600440"/>
            <a:ext cx="31100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 name=""/>
          <p:cNvSpPr/>
          <p:nvPr/>
        </p:nvSpPr>
        <p:spPr>
          <a:xfrm flipV="1">
            <a:off x="3919680" y="1569600"/>
            <a:ext cx="1440" cy="88920"/>
          </a:xfrm>
          <a:prstGeom prst="line">
            <a:avLst/>
          </a:prstGeom>
          <a:ln w="255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4" name=""/>
          <p:cNvSpPr/>
          <p:nvPr/>
        </p:nvSpPr>
        <p:spPr>
          <a:xfrm flipV="1">
            <a:off x="3998880" y="1701360"/>
            <a:ext cx="1800" cy="73080"/>
          </a:xfrm>
          <a:prstGeom prst="line">
            <a:avLst/>
          </a:prstGeom>
          <a:ln w="25560">
            <a:solidFill>
              <a:srgbClr val="ff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65" name=""/>
          <p:cNvSpPr/>
          <p:nvPr/>
        </p:nvSpPr>
        <p:spPr>
          <a:xfrm flipV="1">
            <a:off x="3946680" y="1805040"/>
            <a:ext cx="144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3973680" y="195120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7" name=""/>
          <p:cNvSpPr/>
          <p:nvPr/>
        </p:nvSpPr>
        <p:spPr>
          <a:xfrm flipV="1">
            <a:off x="4040280" y="2082960"/>
            <a:ext cx="1440" cy="72720"/>
          </a:xfrm>
          <a:prstGeom prst="line">
            <a:avLst/>
          </a:prstGeom>
          <a:ln w="2556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68" name=""/>
          <p:cNvSpPr/>
          <p:nvPr/>
        </p:nvSpPr>
        <p:spPr>
          <a:xfrm flipV="1">
            <a:off x="3760920" y="219996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3933720" y="2317680"/>
            <a:ext cx="180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4106880" y="2507760"/>
            <a:ext cx="1440" cy="71640"/>
          </a:xfrm>
          <a:prstGeom prst="line">
            <a:avLst/>
          </a:prstGeom>
          <a:ln w="2556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 name=""/>
          <p:cNvSpPr/>
          <p:nvPr/>
        </p:nvSpPr>
        <p:spPr>
          <a:xfrm flipV="1">
            <a:off x="3800520" y="2682360"/>
            <a:ext cx="1440" cy="87480"/>
          </a:xfrm>
          <a:prstGeom prst="line">
            <a:avLst/>
          </a:prstGeom>
          <a:ln w="25560">
            <a:solidFill>
              <a:srgbClr val="ff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72" name=""/>
          <p:cNvSpPr/>
          <p:nvPr/>
        </p:nvSpPr>
        <p:spPr>
          <a:xfrm flipV="1">
            <a:off x="4132440" y="285912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73" name=""/>
          <p:cNvSpPr/>
          <p:nvPr/>
        </p:nvSpPr>
        <p:spPr>
          <a:xfrm flipV="1">
            <a:off x="4186080" y="3006720"/>
            <a:ext cx="1800" cy="100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4213080" y="3209400"/>
            <a:ext cx="12960" cy="117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4332240" y="3371760"/>
            <a:ext cx="12600" cy="131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4106880" y="356040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4172040" y="3722760"/>
            <a:ext cx="14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4386240" y="3898800"/>
            <a:ext cx="1440" cy="115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4532400" y="4132440"/>
            <a:ext cx="126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5000" y="4352760"/>
            <a:ext cx="14400" cy="144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4559400" y="4541760"/>
            <a:ext cx="1440" cy="1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6800" y="5068800"/>
            <a:ext cx="6245280" cy="72252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1</a:t>
            </a:r>
            <a:endParaRPr b="0" lang="en-US" sz="2200" spc="-1" strike="noStrike">
              <a:solidFill>
                <a:srgbClr val="000000"/>
              </a:solidFill>
              <a:latin typeface="Arial"/>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	</a:t>
            </a:r>
            <a:r>
              <a:rPr b="1" lang="en-US" sz="2200" spc="-1" strike="noStrike">
                <a:solidFill>
                  <a:srgbClr val="ff0000"/>
                </a:solidFill>
                <a:latin typeface="Arial"/>
              </a:rPr>
              <a:t>RR </a:t>
            </a:r>
            <a:endParaRPr b="0" lang="en-US" sz="2200" spc="-1" strike="noStrike">
              <a:solidFill>
                <a:srgbClr val="000000"/>
              </a:solidFill>
              <a:latin typeface="Arial"/>
            </a:endParaRPr>
          </a:p>
        </p:txBody>
      </p:sp>
      <p:sp>
        <p:nvSpPr>
          <p:cNvPr id="83" name=""/>
          <p:cNvSpPr/>
          <p:nvPr/>
        </p:nvSpPr>
        <p:spPr>
          <a:xfrm>
            <a:off x="914400" y="380880"/>
            <a:ext cx="7481880" cy="540000"/>
          </a:xfrm>
          <a:prstGeom prst="rect">
            <a:avLst/>
          </a:prstGeom>
          <a:noFill/>
          <a:ln w="0">
            <a:noFill/>
          </a:ln>
        </p:spPr>
        <p:style>
          <a:lnRef idx="0"/>
          <a:fillRef idx="0"/>
          <a:effectRef idx="0"/>
          <a:fontRef idx="minor"/>
        </p:style>
        <p:txBody>
          <a:bodyPr lIns="0" rIns="0" tIns="0" bIns="0" anchor="t">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800" spc="-1" strike="noStrike">
                <a:solidFill>
                  <a:srgbClr val="000080"/>
                </a:solidFill>
                <a:latin typeface="Arial"/>
              </a:rPr>
              <a:t>20 hypothetical studies, 18 showing an effect, </a:t>
            </a:r>
            <a:r>
              <a:rPr b="1" lang="en-US" sz="2800" spc="-1" strike="noStrike" u="sng">
                <a:solidFill>
                  <a:srgbClr val="000080"/>
                </a:solidFill>
                <a:uFillTx/>
                <a:latin typeface="Arial"/>
              </a:rPr>
              <a:t>none</a:t>
            </a:r>
            <a:r>
              <a:rPr b="1" lang="en-US" sz="2800" spc="-1" strike="noStrike">
                <a:solidFill>
                  <a:srgbClr val="000080"/>
                </a:solidFill>
                <a:latin typeface="Arial"/>
              </a:rPr>
              <a:t> “statistically significant”</a:t>
            </a:r>
            <a:endParaRPr b="0" lang="en-US" sz="2800" spc="-1" strike="noStrike">
              <a:solidFill>
                <a:srgbClr val="000000"/>
              </a:solidFill>
              <a:latin typeface="Arial"/>
            </a:endParaRPr>
          </a:p>
        </p:txBody>
      </p:sp>
      <p:sp>
        <p:nvSpPr>
          <p:cNvPr id="84" name=""/>
          <p:cNvSpPr/>
          <p:nvPr/>
        </p:nvSpPr>
        <p:spPr>
          <a:xfrm>
            <a:off x="3375000" y="4835520"/>
            <a:ext cx="2725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 name=""/>
          <p:cNvSpPr/>
          <p:nvPr/>
        </p:nvSpPr>
        <p:spPr>
          <a:xfrm>
            <a:off x="4705200" y="4776840"/>
            <a:ext cx="18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03600" y="5006880"/>
            <a:ext cx="38782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 name=""/>
          <p:cNvSpPr/>
          <p:nvPr/>
        </p:nvSpPr>
        <p:spPr>
          <a:xfrm>
            <a:off x="2666880" y="5105520"/>
            <a:ext cx="7277400" cy="36036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0</a:t>
            </a:r>
            <a:endParaRPr b="0" lang="en-US" sz="2200" spc="-1" strike="noStrike">
              <a:solidFill>
                <a:srgbClr val="000000"/>
              </a:solidFill>
              <a:latin typeface="Arial"/>
            </a:endParaRPr>
          </a:p>
        </p:txBody>
      </p:sp>
      <p:sp>
        <p:nvSpPr>
          <p:cNvPr id="88" name=""/>
          <p:cNvSpPr/>
          <p:nvPr/>
        </p:nvSpPr>
        <p:spPr>
          <a:xfrm>
            <a:off x="6248520" y="5029200"/>
            <a:ext cx="1857240" cy="36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Symbol"/>
                <a:ea typeface="Symbo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indicator of the likely magnitude of the effe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association, under the assumption that the difference between the true value and the observed value for the association is due only to random vari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effect that are compatible with the data obtain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located centrally in the interval, i.e., near the point estimate, are more compatible with the data than values near the boundary of the interval</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hould therefore be on the entire interval, especially the values around the center of the interval, as well as the upper and lower boundarie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idence interval and the point estimate provide sufficient information to construct a graph of all possible p-values and confidence interv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aph is called the </a:t>
            </a:r>
            <a:r>
              <a:rPr b="1" lang="en-US" sz="2800" spc="-1" strike="noStrike">
                <a:solidFill>
                  <a:srgbClr val="000000"/>
                </a:solidFill>
                <a:latin typeface="Arial"/>
              </a:rPr>
              <a:t>P-value fun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gives the p-values for the null hypothesis, as well as every alternative hypothesis, for the parameter of inter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value function for RR=1.5,</a:t>
            </a:r>
            <a:br>
              <a:rPr sz="3600"/>
            </a:br>
            <a:r>
              <a:rPr b="0" lang="en-US" sz="3600" spc="-1" strike="noStrike">
                <a:solidFill>
                  <a:srgbClr val="000000"/>
                </a:solidFill>
                <a:latin typeface="Arial"/>
              </a:rPr>
              <a:t>95% CI: 0.5, 4.5</a:t>
            </a:r>
            <a:br>
              <a:rPr sz="3600"/>
            </a:br>
            <a:r>
              <a:rPr b="0" lang="en-US" sz="3600" spc="-1" strike="noStrike">
                <a:solidFill>
                  <a:srgbClr val="000000"/>
                </a:solidFill>
                <a:latin typeface="Arial"/>
              </a:rPr>
              <a:t>one-sided p = 0.23</a:t>
            </a:r>
            <a:endParaRPr b="0" lang="en-US" sz="3600" spc="-1" strike="noStrike">
              <a:solidFill>
                <a:srgbClr val="000000"/>
              </a:solidFill>
              <a:latin typeface="Arial"/>
            </a:endParaRPr>
          </a:p>
        </p:txBody>
      </p:sp>
      <p:graphicFrame>
        <p:nvGraphicFramePr>
          <p:cNvPr id="127" name=""/>
          <p:cNvGraphicFramePr/>
          <p:nvPr/>
        </p:nvGraphicFramePr>
        <p:xfrm>
          <a:off x="380880" y="1593720"/>
          <a:ext cx="8458200" cy="4664160"/>
        </p:xfrm>
        <a:graphic>
          <a:graphicData uri="http://schemas.openxmlformats.org/presentationml/2006/ole">
            <p:oleObj progId="Excel.Sheet.12" r:id="rId1" spid="">
              <p:embed/>
              <p:pic>
                <p:nvPicPr>
                  <p:cNvPr id="128" name="" descr=""/>
                  <p:cNvPicPr/>
                  <p:nvPr/>
                </p:nvPicPr>
                <p:blipFill>
                  <a:blip r:embed="rId2"/>
                  <a:stretch/>
                </p:blipFill>
                <p:spPr>
                  <a:xfrm>
                    <a:off x="380880" y="1593720"/>
                    <a:ext cx="8458200" cy="466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line is the 95% confidence interv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line marks off the null hypothe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sided p-value for the null hypothesis is where the green line, vertical from RR=1.0, hits the grap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95% confidence interval represents only one possible horizontal slice through the P-value fun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80% confidence interval can be read off the graph by following where the horizontal line through the one-sided p of 0.1 hits the graph: 0.7, 3.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for every possible hypothesis for the true RR can be read from this grap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2" name="PlaceHolder 2"/>
          <p:cNvSpPr>
            <a:spLocks noGrp="1"/>
          </p:cNvSpPr>
          <p:nvPr>
            <p:ph/>
          </p:nvPr>
        </p:nvSpPr>
        <p:spPr>
          <a:xfrm>
            <a:off x="228240" y="1066680"/>
            <a:ext cx="518148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omparing p-values for different hypotheses (e.g., RR=1.0 vs RR=2.0 vs RR=3.0), one can get an indication of the relative strength of the evidence that the obtained data provides for each hypothesis</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the one-sided p-value for RR=2 is larger than for RR=1.0 (null hypothesis) and for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dicates that the obtained data are more probable under the hypothesis that RR=2 than for the null (RR=1) hypothesis or the hypothesis that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this means that the hypothesis that RR=2 is more supported by the observed data than the null hypothe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R most supported by the observed data is always the point estimate: RR=1.5, with a one-sided p-value of 0.50</a:t>
            </a:r>
            <a:endParaRPr b="0" lang="en-US" sz="1800" spc="-1" strike="noStrike">
              <a:solidFill>
                <a:srgbClr val="000000"/>
              </a:solidFill>
              <a:latin typeface="Arial"/>
            </a:endParaRPr>
          </a:p>
        </p:txBody>
      </p:sp>
      <p:graphicFrame>
        <p:nvGraphicFramePr>
          <p:cNvPr id="133" name=""/>
          <p:cNvGraphicFramePr/>
          <p:nvPr/>
        </p:nvGraphicFramePr>
        <p:xfrm>
          <a:off x="5715000" y="2286000"/>
          <a:ext cx="3200400" cy="2281320"/>
        </p:xfrm>
        <a:graphic>
          <a:graphicData uri="http://schemas.openxmlformats.org/drawingml/2006/table">
            <a:tbl>
              <a:tblPr/>
              <a:tblGrid>
                <a:gridCol w="1904760"/>
                <a:gridCol w="129564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ided P-val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1 (nul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5" name="PlaceHolder 2"/>
          <p:cNvSpPr>
            <a:spLocks noGrp="1"/>
          </p:cNvSpPr>
          <p:nvPr>
            <p:ph/>
          </p:nvPr>
        </p:nvSpPr>
        <p:spPr>
          <a:xfrm>
            <a:off x="228240" y="1371600"/>
            <a:ext cx="85345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provides all the information about the data</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ision of the study is indicated by the width of the graph, and the magnitude of the association corresponds to the peak of the graph</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the arbitrariness of choosing a specific (1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confidence interval (e.g., a 95% confidence interv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voids the arbitrariness of choosing a specific p-value cutoff, (e.g., p=.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cuses attention on the weight of the evidence for other possible hypotheses besides the null hypothe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7" name="PlaceHolder 2"/>
          <p:cNvSpPr>
            <a:spLocks noGrp="1"/>
          </p:cNvSpPr>
          <p:nvPr>
            <p:ph/>
          </p:nvPr>
        </p:nvSpPr>
        <p:spPr>
          <a:xfrm>
            <a:off x="228240" y="1371600"/>
            <a:ext cx="84582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it is cumbersome to provide a P-value function for every estimate of RR, a confidence interval along with the point estimate can provide enough information so that an approximate P-value function graph can be dra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information on the P-value function curve can be provided if additional confidence intervals are presen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nested” confidence intervals can be provided: 50% interval, 80% interval, 95% inter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9"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udies are under-powered. The issue of statistical power must be addressed in the design of the stu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power is affected by sample size and the choice of values for Type I error and the minimum meaningful effect size.  It is also affected by bi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ximize pow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sample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type I err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minimum meaningful effect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bi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the confidence interval, and the P-value function all assume that only random variation is present.  They do </a:t>
            </a:r>
            <a:r>
              <a:rPr b="0" lang="en-US" sz="2800" spc="-1" strike="noStrike" u="sng">
                <a:solidFill>
                  <a:srgbClr val="000000"/>
                </a:solidFill>
                <a:uFillTx/>
                <a:latin typeface="Arial"/>
              </a:rPr>
              <a:t>not</a:t>
            </a:r>
            <a:r>
              <a:rPr b="0" lang="en-US" sz="2800" spc="-1" strike="noStrike">
                <a:solidFill>
                  <a:srgbClr val="000000"/>
                </a:solidFill>
                <a:latin typeface="Arial"/>
              </a:rPr>
              <a:t> address systematic biases (e.g., non-differential exposure misclassification, the healthy worker effect biases, selection bias, confound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should not be interpreted as if it were simply just another way to determine statistical significance, (i.e., it should not be interpreted in the same way as the p-value for the null hypo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interpreting a confidence interval requires taking into account the values in the center of the range as well as the values at both boundar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idence interval and the point estimate together give an approximate indication of the P-value function cur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true that a 95% confidence interval computed from a study contains the true parameter with 95% probability.  The probability that it does contain the true parameter is </a:t>
            </a:r>
            <a:r>
              <a:rPr b="1" lang="en-US" sz="2400" spc="-1" strike="noStrike" u="sng">
                <a:solidFill>
                  <a:srgbClr val="000000"/>
                </a:solidFill>
                <a:uFillTx/>
                <a:latin typeface="Arial"/>
              </a:rPr>
              <a:t>undefin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95%” refers to the frequency that a very large number of intervals constructed in this manner contain the true parameter, assuming that only random variability is 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slide, none of the studies were statistically significant since all the confidence intervals included a RR of 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none of the studies would reject the null hypothe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ailure to reject the null hypothesis does not prove that the null hypothesis is true!  (In fact, most of the studies indicated an increased R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hould be aware that the choice of a particular confidence interval (e.g., 95% interval), and choice of a specific p-value cutoff for statistical significance, are </a:t>
            </a:r>
            <a:r>
              <a:rPr b="1" lang="en-US" sz="3200" spc="-1" strike="noStrike" u="sng">
                <a:solidFill>
                  <a:srgbClr val="000000"/>
                </a:solidFill>
                <a:uFillTx/>
                <a:latin typeface="Arial"/>
              </a:rPr>
              <a:t>arbitrary decisions</a:t>
            </a:r>
            <a:r>
              <a:rPr b="0" lang="en-US" sz="3200" spc="-1" strike="noStrike">
                <a:solidFill>
                  <a:srgbClr val="000000"/>
                </a:solidFill>
                <a:latin typeface="Arial"/>
              </a:rPr>
              <a:t>, with no scientific or public health jus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kson (1942)</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an event has occurred, the definitive question is </a:t>
            </a:r>
            <a:r>
              <a:rPr b="0" lang="en-US" sz="3200" spc="-1" strike="noStrike" u="sng">
                <a:solidFill>
                  <a:srgbClr val="000000"/>
                </a:solidFill>
                <a:uFillTx/>
                <a:latin typeface="Arial"/>
              </a:rPr>
              <a:t>not</a:t>
            </a:r>
            <a:r>
              <a:rPr b="0" lang="en-US" sz="3200" spc="-1" strike="noStrike">
                <a:solidFill>
                  <a:srgbClr val="000000"/>
                </a:solidFill>
                <a:latin typeface="Arial"/>
              </a:rPr>
              <a:t>, “</a:t>
            </a:r>
            <a:r>
              <a:rPr b="0" i="1" lang="en-US" sz="3200" spc="-1" strike="noStrike">
                <a:solidFill>
                  <a:srgbClr val="000000"/>
                </a:solidFill>
                <a:latin typeface="Arial"/>
              </a:rPr>
              <a:t>is this an event which would be rare if the null is true?</a:t>
            </a:r>
            <a:r>
              <a:rPr b="0" lang="en-US" sz="3200" spc="-1" strike="noStrike">
                <a:solidFill>
                  <a:srgbClr val="000000"/>
                </a:solidFill>
                <a:latin typeface="Arial"/>
              </a:rPr>
              <a:t>” </a:t>
            </a:r>
            <a:r>
              <a:rPr b="0" lang="en-US" sz="3200" spc="-1" strike="noStrike" u="sng">
                <a:solidFill>
                  <a:srgbClr val="000000"/>
                </a:solidFill>
                <a:uFillTx/>
                <a:latin typeface="Arial"/>
              </a:rPr>
              <a:t>but</a:t>
            </a:r>
            <a:r>
              <a:rPr b="0" lang="en-US" sz="3200" spc="-1" strike="noStrike">
                <a:solidFill>
                  <a:srgbClr val="000000"/>
                </a:solidFill>
                <a:latin typeface="Arial"/>
              </a:rPr>
              <a:t> “</a:t>
            </a:r>
            <a:r>
              <a:rPr b="0" i="1" lang="en-US" sz="3200" spc="-1" strike="noStrike">
                <a:solidFill>
                  <a:srgbClr val="000000"/>
                </a:solidFill>
                <a:latin typeface="Arial"/>
              </a:rPr>
              <a:t>Is there an alternative hypothesis under which the event would be relatively frequent?</a:t>
            </a:r>
            <a:r>
              <a:rPr b="0" lang="en-US" sz="3200" spc="-1" strike="noStrike">
                <a:solidFill>
                  <a:srgbClr val="000000"/>
                </a:solidFill>
                <a:latin typeface="Arial"/>
              </a:rPr>
              <a:t>”.  If there is no plausible alternative at all, the rarity is quite irrelevant to a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2"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a study will fail to reject the null hypothesis even though the null hypothesis is false (i.e., there really is an effect but the result is not statistically signific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y fails to reject the null hypothesis when the null hypothesis is false, a “</a:t>
            </a:r>
            <a:r>
              <a:rPr b="1" lang="en-US" sz="3200" spc="-1" strike="noStrike">
                <a:solidFill>
                  <a:srgbClr val="000000"/>
                </a:solidFill>
                <a:latin typeface="Arial"/>
              </a:rPr>
              <a:t>type II error”</a:t>
            </a:r>
            <a:r>
              <a:rPr b="0" lang="en-US" sz="3200" spc="-1" strike="noStrike">
                <a:solidFill>
                  <a:srgbClr val="000000"/>
                </a:solidFill>
                <a:latin typeface="Arial"/>
              </a:rPr>
              <a:t> has occu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meaningful effect siz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meaningful effect size is based 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meaningfu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previous studi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of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fication of Type II error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part of designing the study, values for three of the four components are chosen and are used to compute the value of the fourth compon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ually, values for the type I error, the type II error, and the minimum meaningful effect size are chosen, and the value for the sample size is compu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mputed sample size is the number of study subjects necessary to detect an effect equal to (or larger than) the chosen minimum meaningful effect size with the chosen type I and type II error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powe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not making a type II erro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correctly rejecting the null hypothe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 1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 err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1 - Type II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100" name="PlaceHolder 2"/>
          <p:cNvSpPr>
            <a:spLocks noGrp="1"/>
          </p:cNvSpPr>
          <p:nvPr>
            <p:ph/>
          </p:nvPr>
        </p:nvSpPr>
        <p:spPr>
          <a:xfrm>
            <a:off x="457200" y="15235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vel of statistical power in a study depends on the choices for the three other compon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ype I error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err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ed consideration: whether the alternative hypothesis is one-sided or two-sid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mple 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um meaningful effect siz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wer is also affected by the presence of bi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2"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higher value for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choose .10 rather than .05, and a one-sided rather than two-sided alternative</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sample size</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s precision of the study by reducing the varia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not be possible if the number of subjects exposed and/or willing to participate is not larg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limitations may prevent increasing the sample siz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8:14:08Z</dcterms:created>
  <dc:creator>Frank Bove</dc:creator>
  <dc:description/>
  <dc:language>en-US</dc:language>
  <cp:lastModifiedBy>dkleinb</cp:lastModifiedBy>
  <dcterms:modified xsi:type="dcterms:W3CDTF">2003-12-08T15:52:20Z</dcterms:modified>
  <cp:revision>13</cp:revision>
  <dc:subject/>
  <dc:title>Issues concerning the interpretation of statistical significance tes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217472</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ssues about statistical inference"</vt:lpwstr>
  </property>
  <property fmtid="{D5CDD505-2E9C-101B-9397-08002B2CF9AE}" pid="6" name="_ReviewingToolsShownOnce">
    <vt:lpwstr/>
  </property>
</Properties>
</file>